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324-FBE1-4173-956A-8F1F1335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9BB-76C6-47D8-B1B9-D1B6CB51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4EF-AFC2-4259-B480-03F2EF7A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C15-ACD8-4656-B905-DB152F3A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E96-5C99-408D-AAFC-60A60E5E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746-F926-4D1E-895B-C8A46D15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D3D-CBDA-4543-B934-898B9D3A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118-EFEB-4626-9F09-259F88F3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73F-0176-42E2-AECC-CDB772D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80C-782B-4D58-9D91-548528A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B36-9038-4628-8F32-C7B0F114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DE1-B00D-4F13-8575-17756194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A5AB6E-2767-4324-A9F2-5AFA3B3DA45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бщающее повторение часте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омоф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ём, при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чём, при 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125360"/>
          <a:ext cx="8229600" cy="56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с предлог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 предло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ус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ска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де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marL="6808680" indent="-6807240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08680"/>
                          <a:tab algn="l" pos="7723080"/>
                          <a:tab algn="l" pos="8637480"/>
                          <a:tab algn="l" pos="9551880"/>
                          <a:tab algn="l" pos="10466280"/>
                          <a:tab algn="l" pos="11380680"/>
                          <a:tab algn="l" pos="12295080"/>
                          <a:tab algn="l" pos="13209480"/>
                          <a:tab algn="l" pos="14123880"/>
                          <a:tab algn="l" pos="15038280"/>
                          <a:tab algn="l" pos="15952680"/>
                          <a:tab algn="l" pos="1686708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сух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 коллектива клас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с подруг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ветр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и в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ч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ворили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 групп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полнен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омпьютерное 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акой части речи вызывает особое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описание какой части речи вызывает особое затруд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, полученных в 5-9 классах по теме «Морфология», закрепление навыков правописания  разны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тестированию на компьюте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ирован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..ла мать что уже и сыны её сели на к..ней она кинулась к меньш..му у которого в чертах лица выр..жалось более какой-то нежности она схватила его за стремя она прилипла к седлу его и с отчаянием в глазах (не)выпускала из рук сво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огда =  - ), (что - =), [ - = ], (у которого =): [ - = ], [- = и =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ела мать, что уже и сыны её сели на коней, она кинулась к меньшому, у которого в чертах лица выражалось более какой-то нежности: она схватила его за стремя, она прилипла к седлу его и с отчаянием в глазах не выпускала из рук своих. (Н.Г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1052640"/>
            <a:ext cx="576108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rot="17580000">
            <a:off x="1833480" y="2492280"/>
            <a:ext cx="936720" cy="136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480000">
            <a:off x="5510520" y="2491560"/>
            <a:ext cx="97632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4076640"/>
            <a:ext cx="29509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4149720"/>
            <a:ext cx="4392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оя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72200" y="496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840" y="85716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836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857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03840" y="85716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83664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ая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83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120" y="114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4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16477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64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4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а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92920" y="1647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ва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08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ип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6560" y="1989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43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9480" y="2781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80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800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80200" y="2781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" y="30686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7440" y="3089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89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9280" y="3376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33640" y="39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1640" y="39528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50864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452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564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5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5084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4492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5084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27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5084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нег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Когда 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(от гл.стаять в форме 1 лица, буд.врем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нет речк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.голубой в форме сравн. степ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ечёт, кач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стая в форме Вин.п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ё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голубь в форме Род. пад.мн.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8920" y="26028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9:15:52Z</dcterms:created>
  <dc:creator>àð</dc:creator>
  <dc:description/>
  <dc:language>en-US</dc:language>
  <cp:lastModifiedBy>àð</cp:lastModifiedBy>
  <dcterms:modified xsi:type="dcterms:W3CDTF">2011-10-02T18:59:27Z</dcterms:modified>
  <cp:revision>8</cp:revision>
  <dc:subject/>
  <dc:title>Îáîáùàþùåå ïîâòîðåíèå ÷àñòåé ðå÷è</dc:title>
</cp:coreProperties>
</file>